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6890-7BDE-4773-988C-4330B8B7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13F7-5F4E-4E52-95C6-AA6DFC62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74219-1401-4D0B-A357-4F4A1A44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AFCFF-740B-4CC6-B824-03689157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F0293-8F5A-4C48-98F2-C101AEF5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94664-36BD-429E-95E6-2A8FA1E0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C47B3-8550-460F-96C6-76D2A6A4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F7BD0-54AB-42A7-ABDF-C7BF4DA6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7CC18-BA1D-4EE2-88B7-627378AE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38190-0D21-4BF8-8B99-C8245F06F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8AF13-4CC0-4F8A-8B12-77839265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CB880-9F04-4635-A8F5-2201473C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F08E-AB4C-4618-B9AF-1CF30410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55E65-AAC9-405A-897F-B33FA18D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321E8-741A-4715-A167-3070B5EB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B5122-C055-4640-BB1A-5CD566BA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A643F-9B66-4E44-9D62-0BBD340D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316CE-5F58-43D1-9677-5EFAD406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9838A-078A-4E4D-A34A-5CD143D3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37C60-1BA8-4729-95DA-3215D539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F6CE9-20DB-4C83-B49D-7AE7D988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D4E69-FDB0-4769-B2BE-8E006CCE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71409-D7D6-4CC8-B07E-59E66FD6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21DA-4B7C-4BA6-8DCC-09C5BA6B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42DF3-AA87-4493-9C9F-0C0FEF4F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27F98-E540-4641-A668-A4DF02C4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C6F70-6792-4484-AD09-76D9C9DB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70C88-FA4A-4751-B541-0108DC7E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76887-1D52-49A1-8DE8-CB5C2568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BA22A-F8DD-4FA8-9972-740848C6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1FCD3-DE87-47B2-ABF9-BE1ABC2D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68DC7-F7E9-4CC3-B86A-E26093ED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40B75-8AE3-4BEA-8338-A412D2DD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D1DFB-36AB-4AAA-A45F-77996E2B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94E9-3457-4E22-9777-35F13E87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F3B1E-4D2E-4ECB-9BDE-E5A6EC6B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4576D-145E-4231-BB67-504F5F40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B1F35-2514-4C55-A513-533F9EE7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5DAC3-50C0-434E-89EC-E47BE2506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0202D-FDC1-4343-9B22-315DF349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DA7C5-BB14-488E-9025-9A8D507B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3752F-39AE-4BFF-A40F-5E5535F9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E6570-AF9F-47F8-B347-252F3A62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88F2F-7D9F-4A64-AE04-740EAE73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4F2D6-7124-45FB-B221-09D968A2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F8DB-5EB2-41C4-B04A-A1A906A3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69F7E-F9B8-4AB4-8826-AEE24578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733F8-B857-46C4-933E-16A3F345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A444E-4BFC-472E-BB05-9D7536B9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E17BA-BFF9-4B7B-BF02-EB97CD92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F95C1-0F2D-47DC-AF8F-5884C526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2F472B-CF59-474C-AD21-99ABBDCD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8423C6-1342-455F-8626-11762112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18DF58-D20C-4ED0-B862-9CC6CC17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E26040-BEEF-463E-8C0B-334ABB6F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2595F2-E549-42BE-AF88-DC40B25C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350C-7E3D-4035-9769-33B8BB12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5CF96A-5C55-4141-9406-33B1A5BC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59D15B-B480-4CCF-8E96-791B0F8E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459234-F691-4354-B915-49B0685C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377981-17F1-43DA-8BEA-33E97134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DD52D3-D837-42B5-BBFC-A852060B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050A1C-8B69-47D3-A569-56D81E49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995371-F875-4D25-BDAC-ADBEF202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2182B7-B4CF-4CD8-BCD3-10544093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E89728-94A4-4125-B047-AD7E5679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98318D-86DD-426D-841B-C084F7DA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F3E4-FD9E-42B2-B1BE-EFB3E187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530E19-B2D6-48E5-A049-DAED4551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320709-C528-4022-B653-64936444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040704-8063-4C44-B3D8-7BAD9A8C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13A25A-759A-443F-93EB-0B9C226B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03CF65-EE00-45EF-AB2B-0653D314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5A9500-E4C1-424F-B050-22D7A091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7077FF-224F-49B6-B279-B57F4CE6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B6C62B-3222-4348-AE75-3807570E1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B014E8-8816-4F61-8C0E-3DB84614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48CEBB-0FB8-4477-850F-6E39712B0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6F50-08F5-4E5C-94E2-19F86D66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D6BCA8-64D4-4793-8D05-F79C348F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1D01C5-EBB9-4D3D-A11C-B9304F13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01DD69-65C7-4093-A30C-B84E7C5C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1721C3-C54E-4F7C-8C7D-ED10D222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561342-D36D-48C2-AD64-3A7447A3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EEE89A-037B-4F9E-AAFC-EDA69FEF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F60FB9-162B-4DF4-B9BD-19E6B404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7902DE-ED3D-4B2E-B51D-D0610D09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FB789E-7BB7-459E-BBA5-3ABEBF5E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8A4313-4F1E-4F06-B199-775DBFBE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5FCB-CEF6-4C91-BEE1-1353EF38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876726-D9A8-4B48-A6BD-C357830B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36E84D-084C-4C60-B786-65D183A2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079FC2-3C94-40E8-98E8-99EEF2C2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0D62B6-C748-4F85-A52D-62F2F4B9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D74C33-3C2B-421D-8A3E-A27B084F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872F37-561D-43EA-A1E2-4ED4FB61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5DABEB-FE1C-4132-8D08-3BF1B2D9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9EDB93-BD78-44CE-8BD0-1A5AE003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3EA376-B952-475D-9343-01A58232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2ED28F-5BEE-44BA-9209-B0149782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4E10-D3A5-443E-910C-57C79661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7711E4-8C47-4F2B-A743-AFA9C1BC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74F3F0-DF8F-457F-A02B-21A419DA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DAB2EC-AA1A-4E7F-8164-2B51FF95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973242-FE5A-4DE1-A9FC-53A68ECA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91C8E6-A5FB-4EF2-92F1-0B63DBD2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2776E7-B845-4E0F-981D-2F87815E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489474-2CF7-4BBE-A0BA-C2704B37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43E892-4379-49B4-BF13-15D6D57C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10D32C-7562-4D6D-87AF-6617FCE5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4FC000-1D12-4999-83A6-87510C94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2101-447F-4F5D-9610-6B3ED93D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9840-DB43-4188-9EFC-8B43602A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2D80CD-D625-4202-8E4E-B1A81161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AAA2DA-C488-4A63-BFEE-34356F2C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C63AE3-FBF7-44BC-AED1-155A666F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73CBD2-E7E0-40A3-BE48-1C3B3427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3E99E5-6D01-44D9-B3ED-D9297478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56A80B-DDB7-4057-BB67-8772C89D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27A2B5-78E5-416C-8291-70E0ED53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16DBA6-5E9E-4996-8C30-819B7AB9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7BBC76-8190-447B-8600-528FA1D6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299F4E-0E80-4544-BD66-3DE3E3B6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F93D-3F31-4C17-B827-D0005D3F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708A53-14E6-4955-BD4D-DAFF47FE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F4B4BE-B96F-4469-B5CD-06067755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364665-F1F0-4E1F-89CA-5D568195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8DF8A8-6923-4059-A1FE-4822539A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64C9B8-BCFC-4514-9108-C4471779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A1501B-7422-4F99-8287-0B1F92FE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1B2E80-DFFE-48F8-B0DC-FD5F4526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982853-BD23-4FB5-B47E-47A17941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2B2353-8A41-47E5-B298-D209A447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06B19A-3A47-4996-AFF2-29D34F96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68F7-BAA7-4F6F-8857-F5D3FEA9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12D560-D207-4EED-9F10-E6E80329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B43D58-41C7-4E79-8B92-5E4E0C56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EB3194-B4C8-498A-B93D-EAC6C449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3C5FC2-45F2-4828-B1D6-FBC1CC07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89CCDB-C44E-43F9-A2F4-5A70B2AA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4BF513-E75E-4711-9507-217BD7F8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AA446C-7F88-40A6-A959-539B04E9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00F1DB-7ADA-41A5-A05C-146DE2BB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6B6105-2E4D-4CC5-A273-6EDB9864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C54912-6328-4276-BE5D-45CC324C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C6FD-A1DF-4A0B-B825-F1F12046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BCFED8-BD6D-4419-9B71-70B5B943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715465-1ED5-42FD-85FA-0A4076A4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BC056F-922E-46BD-8D95-93EE892F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43D902-83AE-49FE-801B-2C8B6CCC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B3C78A-F50F-4D54-813A-87C49650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DF9E00-BC79-416A-B34D-463ECAEF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32B93D-587E-4231-ACF2-3772F243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F15418-93E0-4C28-9C90-798E79AA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C1959C-21F5-4221-94C3-D0EDF403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DDF9DC-20F5-4460-B901-284A49DF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B892-FF77-431F-9825-0F2495AB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93DD77-C34F-4DC1-B0FF-EA446D82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B90945-72CA-429F-A222-CF7CCECD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80B069-D6EF-4FF9-AC67-DB9628B7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4E028E-8294-41F2-8CE9-B5896A78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553DD1-0C8F-4545-979B-5475C161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CC1082-1199-4F3C-8B43-86ABD380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4A4561-004D-4318-BCDA-5446F901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C219FB-1F3E-47BB-8232-292515BE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C4E9A2-C6E9-4D58-9F96-64968B6D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1739A5-84D2-4101-8D1B-F5B02F3C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3A29D-D717-418F-A8E4-8340A251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8286BF-8EED-4EC0-968D-B3E15157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476AA0-3DE6-4898-9E1D-0D00293A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A3DEFC-54D0-46FA-B0F7-8F57446F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6D515-95B2-4707-A974-23148FFD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BFAD1-FCD6-45DE-86C4-31C11DCB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274C6-CB6E-480A-99AA-1DF40849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EC6B1-1B04-4042-A965-D576B9EE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731E-F59C-4BED-997C-B31EE85A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242F6-B2EB-4F39-A2B5-1D89627E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AFA12-B500-40D0-981D-6EC92E18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03B06-3B6D-4358-8FF8-F348730C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4BAF6-6F32-48BA-BBDD-E0217DC3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3D45B-0758-40B1-A770-B3F323D7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50B61-C2C0-4A27-9F37-4C265F45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D65C6-7CCD-4928-AEC4-3FC4562F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C1751-9FDE-43FA-BE7D-2FB17BA3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D7966-B48F-413F-A377-12E97094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68A2E-BE1E-4105-9068-6C57A9FB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4D05-3895-4F57-AF70-8CE027E6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F4598-F2DE-4C4C-ADA7-C8E8C311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5B58A-7DA0-46A0-ADBF-FA472C84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98520-D7AD-4A36-894E-30F7D9A3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80790-6917-47E6-A7F8-09E4CAC4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11CA2-7A94-4B30-8719-56CC3401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CE29A-B1B6-4554-B239-F0CAD7D8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958BF-0B4F-4BD7-8BF1-32CBBD11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24970-AC13-4FDB-858E-FE822DB8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6444C-CC52-409B-A3AF-43FF304C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D57F3-77B8-430A-9225-E580D541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8BC6-C1EB-4691-9F90-282CA8C2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30037-DBCB-4524-B834-C00CD5FE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78EF4-3846-43CF-86BA-C0799559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FE337-646F-4755-B73C-E0777B96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C8F62-ED7B-4D20-B240-3D4002CB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75C2D-9C0E-4BBB-A1EB-6F71CEF9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F121C-14DD-4444-8D68-4CE7FD7C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0368F-8841-489A-AD01-FCA36A02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F5357-5394-47DF-90B8-24C283DA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686B7-A565-41AA-95D8-617D75AF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E43E1-71D1-4A51-BDC3-CCE6C457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E1D7-694A-4348-9FB1-3D122548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84FB2-B727-498F-A52E-55E01451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7FF90-FB3A-47FF-BAFB-3CC52066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E7F8B-F037-44FF-B86D-F0B34436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DE4D7-D765-401C-8B0C-416FFB02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087F9-4E1D-4F27-8CF4-EE6DEE5B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24E80-4BD7-4762-837C-9F7F6C8E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5A77E-C2A8-47A6-B50D-618456E1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05BBB-056C-40B1-8436-2132BB9B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50657-4458-4A0A-9716-27DEE286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919F0-C9F5-448A-8EB7-DF755AB3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614B-A829-4014-80EF-1AF6EA40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77C76-F8EA-4149-9789-EEF9006D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742B2-5AD2-42B8-8AB0-12F656CB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568BC-133B-49CE-BDCC-889AD134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F9484-6EF1-4C22-9FE2-2AECADDA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B6BED-D048-4FAB-8B53-0A4718EC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BA0DA-BACC-4448-A4A3-B7EADDEF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27F29-470E-4E8B-BFF4-36CD2727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81367-4200-4EA4-8792-36131E05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43B15-3866-4173-8D6C-13F19A91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54706-75B5-4C71-BFE7-CE49201B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E70C-5121-40D7-B8DC-A7750C1C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AFDD1-9F14-40E2-921D-AAA66858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4E8B6-A007-4FAD-B429-AA09D9BB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D0541-CDFB-4D6E-BF9E-E67C1649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620B8-2241-42CC-9083-5DAFB3CF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019EA-9C70-44FD-B5AC-4B058010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6F11E-B51A-4685-B16E-AF2F9A6A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A952E-004F-4481-9C39-37EF110B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35572-B5C7-4438-8788-555B5022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F9595-9E11-4731-BD96-53FC3846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39E0F-B082-4A22-9CC5-634ADE9E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9529-6052-4CE7-BAD1-E1DF477C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21062-8AB6-46D6-A4A7-C346C4F9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2E877-3926-4756-8963-6023ED14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71C9E-BA2F-49F7-9693-269D5F9D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4AEEE-4107-43F0-A912-AC6620A9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47097-EB5B-443D-AD74-83CFDF36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34BCA-E2D1-4AB8-B9EA-1E9213F9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1779E-C94B-417D-94B0-2DF54E3D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6F68B-36BE-4456-8B99-994E1D18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7A757-FDDB-4A21-A905-311737AD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6B5F1-C113-4428-AF4F-07F9EF54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0B08-2AE3-4CD8-ABBC-203EADC3F6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F5DD-B962-4089-A480-D1F9BBB6B6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E339-62EC-4360-BF8B-6521072554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B4BE-C171-41E9-88D9-83268CE2B2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FA29-1F0A-4946-9FAD-AA3C07AF9F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3BA5-0471-44B3-8A8D-AA65345850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4F9A-BB8C-4005-B5FA-383A1A7C11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C8D6-EDCF-4BBA-8DE3-22D52CB585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D533-FC4E-4267-96D9-FF928DBE22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BCD1-EA86-4C08-86B4-761ED0E1DA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291E-2997-4224-8CA8-1921124F5F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F9B0-B203-4AF5-BCDB-A4C5462345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7E89-BF97-4861-AF23-C882E15E90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2392-9587-4B93-B523-0CF4E8906C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27EF-6FC0-4A10-A80D-59C118A0E6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D233-D567-4F27-B688-0945D1047E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2ADA-CA37-4911-86A4-8FF30F8707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6809-A2DD-4211-8ECC-CFC580C877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DB69-60B5-49AF-8A10-9245D9A7E7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FCCA-0895-4E2E-9DDC-08A7AD861E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F336-1558-4A40-94C0-3F915B07DA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74EC-EADE-42ED-911C-806DDBFD8E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E36A-A09F-45F4-BE8A-F794F211C4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DF77-353A-46AB-A098-348D21999B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9248-4C38-4AD5-A8F3-50A64F1EC7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66BF-FB77-47F0-BB61-7231C63B7D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63F1-8049-4042-A742-522DFC1E51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7FD0-1EFD-424B-8052-8507D76471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D0E9-8AE2-4D06-A663-BFFDE393C0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5297-281B-475B-8047-C5C1396CA8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0B35-CB73-40AC-AC11-C51AE2896B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8B41-6F28-49D8-B523-5E09EED366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79E2-3ED1-48BF-B474-87A007CEDF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A6EA-79F6-48D3-9576-3754CD6EE6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3965-2910-46BD-833E-AC1A12F35B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C06D-C9F3-4C1E-A9A5-344BE7F4C0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FD35-5B03-449D-A4A7-6E3FF51849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D18E-6C20-4178-8524-CD5E832AB0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C854-CB91-469A-99CB-FC7DE311D8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D59A-8C44-4A6C-9C58-C0A76E8ECE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671480" y="2533680"/>
            <a:ext cx="58010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图片 69633" descr=""/>
          <p:cNvPicPr/>
          <p:nvPr/>
        </p:nvPicPr>
        <p:blipFill>
          <a:blip r:embed="rId1"/>
          <a:stretch/>
        </p:blipFill>
        <p:spPr>
          <a:xfrm>
            <a:off x="1405080" y="1125360"/>
            <a:ext cx="6333840" cy="2219400"/>
          </a:xfrm>
          <a:prstGeom prst="rect">
            <a:avLst/>
          </a:prstGeom>
          <a:ln w="0">
            <a:noFill/>
          </a:ln>
        </p:spPr>
      </p:pic>
      <p:pic>
        <p:nvPicPr>
          <p:cNvPr id="969" name="图片 69634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7010640" cy="23050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3"/>
          <a:stretch/>
        </p:blipFill>
        <p:spPr>
          <a:xfrm>
            <a:off x="4011480" y="1413000"/>
            <a:ext cx="633600" cy="7207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4"/>
          <a:stretch/>
        </p:blipFill>
        <p:spPr>
          <a:xfrm>
            <a:off x="6877080" y="1427040"/>
            <a:ext cx="633240" cy="7207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5"/>
          <a:stretch/>
        </p:blipFill>
        <p:spPr>
          <a:xfrm>
            <a:off x="3995640" y="2319480"/>
            <a:ext cx="633600" cy="7207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6"/>
          <a:stretch/>
        </p:blipFill>
        <p:spPr>
          <a:xfrm>
            <a:off x="6877080" y="2319480"/>
            <a:ext cx="633240" cy="7207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7"/>
          <a:stretch/>
        </p:blipFill>
        <p:spPr>
          <a:xfrm>
            <a:off x="1908000" y="3803760"/>
            <a:ext cx="633600" cy="7207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8"/>
          <a:stretch/>
        </p:blipFill>
        <p:spPr>
          <a:xfrm>
            <a:off x="4773600" y="3817800"/>
            <a:ext cx="633600" cy="7207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9"/>
          <a:stretch/>
        </p:blipFill>
        <p:spPr>
          <a:xfrm>
            <a:off x="7524720" y="3817800"/>
            <a:ext cx="633600" cy="7207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0"/>
          <a:stretch/>
        </p:blipFill>
        <p:spPr>
          <a:xfrm>
            <a:off x="1908000" y="4710240"/>
            <a:ext cx="633600" cy="7207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11"/>
          <a:stretch/>
        </p:blipFill>
        <p:spPr>
          <a:xfrm>
            <a:off x="4773600" y="4653000"/>
            <a:ext cx="633600" cy="7207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12"/>
          <a:stretch/>
        </p:blipFill>
        <p:spPr>
          <a:xfrm>
            <a:off x="7624800" y="4695840"/>
            <a:ext cx="6332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43000" y="928800"/>
            <a:ext cx="8658000" cy="50004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227640" y="3141720"/>
            <a:ext cx="633600" cy="9349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050920" y="4121280"/>
            <a:ext cx="633600" cy="501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050920" y="4738680"/>
            <a:ext cx="63360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628560" y="1519200"/>
            <a:ext cx="7886880" cy="38196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3780000" y="2722680"/>
            <a:ext cx="633240" cy="5032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3780000" y="2117880"/>
            <a:ext cx="633240" cy="502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6084720" y="2205000"/>
            <a:ext cx="633600" cy="9367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5"/>
          <a:stretch/>
        </p:blipFill>
        <p:spPr>
          <a:xfrm>
            <a:off x="1547640" y="3500280"/>
            <a:ext cx="633600" cy="5032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6"/>
          <a:stretch/>
        </p:blipFill>
        <p:spPr>
          <a:xfrm>
            <a:off x="5119560" y="3213000"/>
            <a:ext cx="633600" cy="5032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7"/>
          <a:stretch/>
        </p:blipFill>
        <p:spPr>
          <a:xfrm>
            <a:off x="6948360" y="3789360"/>
            <a:ext cx="633600" cy="5032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8"/>
          <a:stretch/>
        </p:blipFill>
        <p:spPr>
          <a:xfrm>
            <a:off x="1547640" y="4898880"/>
            <a:ext cx="633600" cy="5032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9"/>
          <a:stretch/>
        </p:blipFill>
        <p:spPr>
          <a:xfrm>
            <a:off x="3276720" y="4581360"/>
            <a:ext cx="9349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8373" descr=""/>
          <p:cNvPicPr/>
          <p:nvPr/>
        </p:nvPicPr>
        <p:blipFill>
          <a:blip r:embed="rId1"/>
          <a:stretch/>
        </p:blipFill>
        <p:spPr>
          <a:xfrm>
            <a:off x="547560" y="1657440"/>
            <a:ext cx="8048880" cy="35431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936720" cy="5032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3276720" y="2938320"/>
            <a:ext cx="936360" cy="5032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1619280" y="4221000"/>
            <a:ext cx="936720" cy="10083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5724360" y="4164120"/>
            <a:ext cx="9367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7352" descr=""/>
          <p:cNvPicPr/>
          <p:nvPr/>
        </p:nvPicPr>
        <p:blipFill>
          <a:blip r:embed="rId1"/>
          <a:stretch/>
        </p:blipFill>
        <p:spPr>
          <a:xfrm>
            <a:off x="290520" y="1000080"/>
            <a:ext cx="8562960" cy="485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7667640" y="1989000"/>
            <a:ext cx="633240" cy="5032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7667640" y="2852640"/>
            <a:ext cx="633240" cy="5032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7596360" y="4076640"/>
            <a:ext cx="633240" cy="5032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7653240" y="5315040"/>
            <a:ext cx="63360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6324" descr=""/>
          <p:cNvPicPr/>
          <p:nvPr/>
        </p:nvPicPr>
        <p:blipFill>
          <a:blip r:embed="rId1"/>
          <a:stretch/>
        </p:blipFill>
        <p:spPr>
          <a:xfrm>
            <a:off x="414360" y="1357200"/>
            <a:ext cx="8315280" cy="41436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2916360" y="2190600"/>
            <a:ext cx="633240" cy="8924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6659640" y="2219400"/>
            <a:ext cx="633240" cy="8920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3059280" y="3298680"/>
            <a:ext cx="633240" cy="8924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6877080" y="3284640"/>
            <a:ext cx="633240" cy="8920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6"/>
          <a:stretch/>
        </p:blipFill>
        <p:spPr>
          <a:xfrm>
            <a:off x="2627280" y="4379760"/>
            <a:ext cx="633600" cy="892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7"/>
          <a:stretch/>
        </p:blipFill>
        <p:spPr>
          <a:xfrm>
            <a:off x="6934320" y="4365720"/>
            <a:ext cx="86364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5300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572320" cy="3943440"/>
          </a:xfrm>
          <a:prstGeom prst="rect">
            <a:avLst/>
          </a:prstGeom>
          <a:ln w="0">
            <a:noFill/>
          </a:ln>
        </p:spPr>
      </p:pic>
      <p:pic>
        <p:nvPicPr>
          <p:cNvPr id="953" name="图片 55301" descr=""/>
          <p:cNvPicPr/>
          <p:nvPr/>
        </p:nvPicPr>
        <p:blipFill>
          <a:blip r:embed="rId2"/>
          <a:stretch/>
        </p:blipFill>
        <p:spPr>
          <a:xfrm>
            <a:off x="971640" y="4770360"/>
            <a:ext cx="5448240" cy="19717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900000" y="4768920"/>
            <a:ext cx="5543640" cy="5032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684360" y="5402160"/>
            <a:ext cx="5543280" cy="5032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5"/>
          <a:stretch/>
        </p:blipFill>
        <p:spPr>
          <a:xfrm>
            <a:off x="755640" y="6107040"/>
            <a:ext cx="55436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4276" descr=""/>
          <p:cNvPicPr/>
          <p:nvPr/>
        </p:nvPicPr>
        <p:blipFill>
          <a:blip r:embed="rId1"/>
          <a:stretch/>
        </p:blipFill>
        <p:spPr>
          <a:xfrm>
            <a:off x="166680" y="76320"/>
            <a:ext cx="8810640" cy="67053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611280" y="2924280"/>
            <a:ext cx="6192720" cy="5032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395280" y="3645000"/>
            <a:ext cx="6192720" cy="5032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324000" y="4292640"/>
            <a:ext cx="6192720" cy="5032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395280" y="4941720"/>
            <a:ext cx="6192720" cy="5032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468360" y="5661000"/>
            <a:ext cx="8424720" cy="5032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7"/>
          <a:stretch/>
        </p:blipFill>
        <p:spPr>
          <a:xfrm>
            <a:off x="250920" y="6340320"/>
            <a:ext cx="84247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52231" descr=""/>
          <p:cNvPicPr/>
          <p:nvPr/>
        </p:nvPicPr>
        <p:blipFill>
          <a:blip r:embed="rId1"/>
          <a:stretch/>
        </p:blipFill>
        <p:spPr>
          <a:xfrm>
            <a:off x="266760" y="792000"/>
            <a:ext cx="8610480" cy="58770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"/>
          <a:stretch/>
        </p:blipFill>
        <p:spPr>
          <a:xfrm>
            <a:off x="755640" y="4811760"/>
            <a:ext cx="5472000" cy="5032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3"/>
          <a:stretch/>
        </p:blipFill>
        <p:spPr>
          <a:xfrm>
            <a:off x="684360" y="5516640"/>
            <a:ext cx="5472000" cy="5032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4"/>
          <a:stretch/>
        </p:blipFill>
        <p:spPr>
          <a:xfrm>
            <a:off x="684360" y="6180120"/>
            <a:ext cx="547200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2:26:2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